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D6E-81A7-49FB-8127-4D4F617D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963-FE0A-427E-8A86-8C3700F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0C51A-DCBD-41A8-AA85-BC0CA086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D7D5-B85A-43B8-B1BE-409C536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CAA7-1A56-4B1D-BAC9-9D1C7272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7E8E2-6FBD-4D5C-90D3-AD205187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82F5B-2791-42AD-B2A8-55B3AB9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8AC2-FEBC-492A-9A80-7445DF0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5923D-95C4-4F3B-967B-1379F216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5F3DF-3AF6-4CCA-A10D-3DAF01BF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6E5B-362A-45CB-8D6C-DA1DAE69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80CC-AC35-4683-AB75-DFA21CE0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985-93A1-4600-977D-0107FEE6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C5ED1-3CA1-427C-A038-24059F44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F2550-6711-4961-8D1D-7459B946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16373-DD07-4512-BF6D-A5BB4616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3793D-1DC9-4AF4-B059-2E1CA249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1E897-7AD8-48FD-AB19-0552B75A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6BA53-A15E-4121-BCF9-B0F0286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255A2-D62E-4A1D-ADE1-EDD2532F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BE548-260C-4326-9023-1D7A091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CA351-DF89-4092-B033-8CD99773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30391-2489-4337-B924-22255DF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703-A2E7-44D6-9CD7-0229AF75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930B8-7EF2-4AB5-9495-A9ED9836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18CC-FC64-4E0A-B0A2-0F6452E1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6580-4290-4951-A476-2D0EFFD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7C27-0BC9-4E66-B165-A328D85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9B40-AA25-4BC6-ABE8-DE265316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33252-F031-4E9A-A45E-8E1F8DA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D75C-573A-4694-90BD-774215D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397A-5466-4640-AFB5-6BE7117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16D6-AE0A-4C06-9B7C-189E9107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7FFA-438D-41EF-89DE-1826E93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DB8-AE35-40BA-89FC-933A5241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AB6CE-2A46-4EAE-A31A-9753718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1223-F539-47DF-818F-F841C3AF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C8E4-6C37-43D5-8D30-9EBA9739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51A48-6E7A-4BAD-BF9A-BC173341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727CF-D406-436E-9FA3-68BB36D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32751-776F-4774-ABE3-6FE8389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FA9D1-1B3F-42E4-A157-59318CF5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C706B-5CFB-4CED-A29A-D8F5728A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CE2CB-EA68-4D36-B400-6A977F58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5E853-5455-4746-9C74-B4664D2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7D4-DA17-4EAD-98E0-B14E720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944CC-69B9-4F5F-A709-B57CDC3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9FEC7-962B-45B9-9776-69DE820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02A90-7425-4401-B2E0-8A30ECB2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D69F1-E677-46A8-A950-0B091333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1565D-E0A6-4A3A-9B40-7CA6A8A8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9B0-9F72-4BCB-A4AE-41195ABC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C66-5749-49C2-B3D6-0927E99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66B-6164-4652-B6E9-967D00E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69A-77A4-48BB-9701-1E0CBEFB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A51-00E7-491A-A46E-FC807F6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E0D-6048-47BD-9C73-CA2CB76D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66FB-1E02-4E29-831B-7F75E3C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3F5-DE4D-464D-9864-8B2DA39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564-2B51-47F9-9EC3-E924B86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900F-4172-4333-AB5D-8A2BADCE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4C1-B282-453A-802E-21C1DE90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71AA-950C-47A5-A758-D017E8C9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B8C0-51F7-4F59-9321-45B55B6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75E7-70E9-46F5-BD7C-E6F2FD7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37F9-295D-4887-A5F5-6B4A92F1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26FD-47F1-4F7B-B7C8-7DA3BB9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693-C386-4B5B-A5FE-89B8CE03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2C0C-F7CD-4134-8E8D-AC113FFE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28C4-8C9A-4C1D-A542-599C780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98F4-C58B-4B19-919C-204E3C8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D501-65DD-4518-AED6-EFC45577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A2BB-DBCB-4CD6-B98A-A3E71C42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599A-2333-4B47-A017-41C226E4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2A181-0988-4154-80C7-7B706578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B92C-15F6-43D7-B8BE-A3BF950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7950-6ADC-45F4-99FD-BDD72F5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0EC4-03E5-42B4-B44B-010B7B29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EBB-6B8D-4E31-9133-6C1040A8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9C79-BE93-4F96-B644-33B61FDF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9791-7AF9-4BF7-8532-A213174B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4BF5-CE92-4126-9728-CA03B4D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C8A5-DD12-4E68-9AF5-01367E3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EB57-EC0D-4283-ACC3-3864E9E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47B6-27C9-4BAE-BEC3-85E7F51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4D4B-2694-43FB-91AF-A9C8CE9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6322-93B2-4F43-B8C8-EBC2420B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2753-9969-47B8-862C-DDFB3503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48A7-2854-4504-9D5A-C22B2802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A0F-7389-415B-9859-4831E77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9322-8B20-4433-9486-1F11F907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864E6-CBFD-4D24-91A1-34845DC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2095-4407-467A-9952-601C8DAD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BE92-7626-48DF-A098-CF34B48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AB4E-E3C4-48B4-9297-78E30E0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62D7-01EB-4D80-8884-4D63F1A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EF189-75B8-489E-969C-580FC92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1344-2E14-4823-B913-9CE2FC9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EAC6-F237-4CC5-9A6C-5821676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D525-6350-4121-91D4-57BA4687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FDA-8EBC-4FD2-974D-28551D6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F3E5-9FC4-43F8-94DB-4B2BDB85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358C-B55E-43A8-9499-24B65B9F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01AB-FD33-4640-A276-7544F672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40DA-922F-4A18-9773-DDF1E78A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01AF-C0AB-4D28-BBB2-82ED01C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DE08-EE7F-4B4F-870F-72C152C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1BAC-EF0D-463E-A39D-9B43B4B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CD7D-05D2-4CC2-B60E-D2416D0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58A91-6E29-43D3-BF3B-A84B941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6699-1B13-4C47-9D74-44BBE1A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DB9-D423-4D33-803C-4BF02AE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3413-04EB-4C29-BE35-D7FC4BA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6475-1074-4EF1-A962-801D7BCC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C393-5BA3-4CF2-9216-345E7E1E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CD0F-FB6F-4DDE-92BD-13B2A2F4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5305-2B11-40BE-8966-AB490FA1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C5B7-DF24-4FC4-9F3F-8D72AA0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995E-E076-4801-BD16-FDFA837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92A25-B376-4E7A-AE28-B774CEC8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987AE-590F-44FF-8042-B7E1B568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868E-9273-4413-98FF-371A6FA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A02-ECC6-418A-B5D5-2326711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9EA5-20E3-45AE-A67B-9CFD9D8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E24D-9DED-4AA2-9EB0-9ABB511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E281-0A4D-4CA7-A4A6-E656A28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99A38-2023-4AD7-B7F7-BBDB4517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6F50-C8B7-4075-B24A-BD3C8E55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B815E-CCCF-48E0-ADE2-83E7352C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04DB-7024-4151-AA3D-1054B57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E180-7634-4067-A566-A08B28F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A62D1-8BB3-48DC-9465-E3A1A06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16C58-AC03-4536-ACFF-1BA0019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E0C-853F-41CE-B736-29DFB317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4D47-C1BF-4B0D-99D5-A89DFDE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E999-03A2-4FA1-92FE-351CE5A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E51BD-27F1-4313-B445-9F58E47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EA157-6622-4BE6-9FD8-F334B31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6722-BCA7-40F5-AABF-59744727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FD3E-2523-4A84-B402-481C0C1A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76CDC-453B-4EB7-BAE0-636DC412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831DB-B528-452F-BC0C-615C4717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09223-91B3-4147-A83B-11ACD03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E16A-B085-4596-804E-18966BD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B3B9-5E37-425E-8E24-1064923488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983-241F-404B-A7D0-C67E44BA60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E9F-345D-4C2A-89CD-DF9F27869E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655D-9001-40E3-B3DD-CB60934ED4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7CA-7F00-4AC5-A3D3-6512923D54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0833-38BD-45EC-97B7-A00F6B4CE9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503-9D70-4A66-9150-0458D62112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DC2B-847F-4B4C-A3B7-7C6122543C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02D4-D1AA-4C44-8622-FDC3A7AF7F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366-1AEF-4D12-B81A-6FA8698F0F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8C7D-CC53-45B8-8D6F-33AD7E8990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48B5-7BFC-49A1-9FA0-8220591D66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7 Príď, Duchu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Duchu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e srdce zm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pra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ou mocne zahor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ma slúžiť blížny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 sebect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aj viac pok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hosťom m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blízko mň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o mnou bdieť rá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ji posilňu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trpezliv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ase súž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voju pomoc upev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úzkostí ma môž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chýb chmúrny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reň vytrhnú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teba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rosbou obraci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očuješ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sa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hojné dávaš dary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tvojím sľubom pev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iť chc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podľa m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ej štedr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ocie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nášať vždy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03:49Z</dcterms:modified>
  <cp:revision>21</cp:revision>
  <dc:subject/>
  <dc:title>Je veľký náš Pán, on slávy je Kráľ Nech do všetkých strán  spev vrúcnych znie chvál.</dc:title>
</cp:coreProperties>
</file>